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2097-7B8E-42FC-A0FE-95F01BC3D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0B16-8F0F-41D5-ADC4-BF3954F40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5421-13E1-41A3-A1F2-4F6E44CEE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1BA3-F519-470D-81E1-753786691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6758-0479-433F-82E9-AB3795095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A1AE-D264-4F45-BBBC-50476EBE5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3230-B58C-4D1E-883D-35950F721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835F-37B2-4B0E-8125-A331CA3B1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032C-B99E-405E-AF8F-990759976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0BC2-D87F-44A8-9D6E-A43348B5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DA8B-DDC3-4A15-9441-81CE3D34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135B-D6A3-4933-9F76-E9579EB6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B4959-01EF-4EE8-8E83-0793F3541D0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8CB26-95A5-4674-ABFF-8E47CB4ED7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Agent Communication Language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dul Ghaf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eel 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lal Mustaf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.Talha Mas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Jade Example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7200" y="1809720"/>
          <a:ext cx="8229600" cy="410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09720"/>
                    <a:ext cx="8229600" cy="41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gent Communication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7CB8-1E90-4930-A005-2F0308E143B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CCD915-C5C9-4BE2-8E59-419032E57D8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General Concept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3048120"/>
            <a:ext cx="144756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t 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209680" y="1752480"/>
            <a:ext cx="1676520" cy="761760"/>
            <a:chOff x="2209680" y="1752480"/>
            <a:chExt cx="1676520" cy="761760"/>
          </a:xfrm>
        </p:grpSpPr>
        <p:sp>
          <p:nvSpPr>
            <p:cNvPr id="127" name=""/>
            <p:cNvSpPr/>
            <p:nvPr/>
          </p:nvSpPr>
          <p:spPr>
            <a:xfrm>
              <a:off x="2209680" y="1752480"/>
              <a:ext cx="1676520" cy="169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LMessa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209680" y="1921680"/>
              <a:ext cx="1676520" cy="169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209680" y="2091240"/>
              <a:ext cx="1676520" cy="423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 flipH="1">
            <a:off x="1218960" y="24382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0" y="3200400"/>
            <a:ext cx="99072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lmsgOb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52480" y="3429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76720" y="3429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4572000" y="2133720"/>
            <a:ext cx="91440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34120" y="1676520"/>
            <a:ext cx="53316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3657600" y="2971800"/>
            <a:ext cx="1828800" cy="990720"/>
            <a:chOff x="3657600" y="2971800"/>
            <a:chExt cx="1828800" cy="990720"/>
          </a:xfrm>
        </p:grpSpPr>
        <p:sp>
          <p:nvSpPr>
            <p:cNvPr id="137" name=""/>
            <p:cNvSpPr/>
            <p:nvPr/>
          </p:nvSpPr>
          <p:spPr>
            <a:xfrm>
              <a:off x="3657600" y="2971800"/>
              <a:ext cx="1523880" cy="99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CLPar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81480" y="2971800"/>
              <a:ext cx="304920" cy="99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5943600" y="3048120"/>
            <a:ext cx="60948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486400" y="3429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620120" y="3048120"/>
            <a:ext cx="106668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3048120"/>
            <a:ext cx="838080" cy="3045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ylo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553080" y="3429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620120" y="4800600"/>
            <a:ext cx="1066680" cy="838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153280" y="3886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876920"/>
            <a:ext cx="144792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t 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38280" y="5029200"/>
            <a:ext cx="990720" cy="3808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lmsgOb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5638320" y="5257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943600" y="4876920"/>
            <a:ext cx="609480" cy="838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34290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4876920"/>
            <a:ext cx="838080" cy="3045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ylo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6553080" y="52578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809880" y="4800600"/>
            <a:ext cx="1828800" cy="990720"/>
            <a:chOff x="3809880" y="4800600"/>
            <a:chExt cx="1828800" cy="990720"/>
          </a:xfrm>
        </p:grpSpPr>
        <p:sp>
          <p:nvSpPr>
            <p:cNvPr id="154" name=""/>
            <p:cNvSpPr/>
            <p:nvPr/>
          </p:nvSpPr>
          <p:spPr>
            <a:xfrm>
              <a:off x="3809880" y="4800600"/>
              <a:ext cx="1523880" cy="9907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CLPar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333760" y="4800600"/>
              <a:ext cx="304920" cy="9907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 flipH="1">
            <a:off x="1828440" y="5181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886200" y="24382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gent Communication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3DBB-E8DD-49B1-A03E-70C20C62A632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7316AC-94B1-43F2-95EE-E7929E42A57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Representation of Ontology In ACLMessage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2819520"/>
            <a:ext cx="10666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lmsgOb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90720" y="3886200"/>
            <a:ext cx="10666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tologyOb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276720" y="2971800"/>
            <a:ext cx="1828800" cy="990720"/>
            <a:chOff x="3276720" y="2971800"/>
            <a:chExt cx="1828800" cy="990720"/>
          </a:xfrm>
        </p:grpSpPr>
        <p:sp>
          <p:nvSpPr>
            <p:cNvPr id="162" name=""/>
            <p:cNvSpPr/>
            <p:nvPr/>
          </p:nvSpPr>
          <p:spPr>
            <a:xfrm>
              <a:off x="3276720" y="2971800"/>
              <a:ext cx="1523880" cy="99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CLPar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00600" y="2971800"/>
              <a:ext cx="304920" cy="99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1981080" y="2971800"/>
            <a:ext cx="12956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2057400" y="3504960"/>
            <a:ext cx="12193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055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867280" y="2286000"/>
            <a:ext cx="2819520" cy="30481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80808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153120" y="2932200"/>
            <a:ext cx="2133720" cy="19396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80808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326280" y="2378160"/>
            <a:ext cx="1783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CL Mess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153480" y="2932200"/>
            <a:ext cx="2219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ssage Cont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706440" y="3657600"/>
            <a:ext cx="1066320" cy="855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Ont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Serializ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943600" y="5486400"/>
            <a:ext cx="2590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PA Compliant ACL Me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gent Communication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63C5-FF39-4018-85DB-5ED0E073171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8120DE-B51C-4F2D-9E1B-BB19093CFA1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Agenda for next week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ize the class diagr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 the class diagram with other com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e ta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Co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gent Communication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BABA-EAFC-4AA6-8F6F-DF5A51360EF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41CD7F-B7CC-4053-AFDE-7537671EACC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/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all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Representation Langu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LMessage Re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t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ology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ology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de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Conce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ation of Ontology In ACLMes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gent Communication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0934-F400-4419-A8FB-6C3E203EA57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A1B4A7-1207-4AA9-BAFA-69B7746AB3C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1600200"/>
            <a:ext cx="8305560" cy="4571640"/>
            <a:chOff x="380880" y="1600200"/>
            <a:chExt cx="8305560" cy="4571640"/>
          </a:xfrm>
        </p:grpSpPr>
        <p:sp>
          <p:nvSpPr>
            <p:cNvPr id="46" name=""/>
            <p:cNvSpPr/>
            <p:nvPr/>
          </p:nvSpPr>
          <p:spPr>
            <a:xfrm>
              <a:off x="3276360" y="3777120"/>
              <a:ext cx="2057400" cy="9432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52680" y="41400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CLMess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019560" y="3486600"/>
              <a:ext cx="2666880" cy="130608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171840" y="3777120"/>
              <a:ext cx="20574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tentLangu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XML,RDF,DAML OI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410080" y="42127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4495680" y="2615400"/>
              <a:ext cx="0" cy="108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495680" y="26157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714640" y="2108160"/>
              <a:ext cx="2590920" cy="9432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019560" y="239832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ntolog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00040" y="5228640"/>
              <a:ext cx="2057400" cy="9432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0760" y="4720680"/>
              <a:ext cx="0" cy="50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52680" y="559152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CLPar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5228640"/>
              <a:ext cx="2057400" cy="9432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2437920" y="58093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56840" y="5518800"/>
              <a:ext cx="1524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xical Analyz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1371240" y="4430160"/>
              <a:ext cx="0" cy="72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33160" y="3486600"/>
              <a:ext cx="2057400" cy="9432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5440" y="3777120"/>
              <a:ext cx="1524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oken Cre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1371240" y="2761200"/>
              <a:ext cx="0" cy="65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09480" y="1600200"/>
              <a:ext cx="2209680" cy="11610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61760" y="2035440"/>
              <a:ext cx="220968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oken( ACTS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mantic, et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Overall Flow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gent Communication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4C74-57E2-4C1F-9FBD-7A193EDB102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082163-8B88-49AD-9974-BE888C69C58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Content Language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PA Standard (XM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tform interoper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ic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486400" y="3124080"/>
            <a:ext cx="2819520" cy="2514600"/>
            <a:chOff x="5486400" y="3124080"/>
            <a:chExt cx="2819520" cy="2514600"/>
          </a:xfrm>
        </p:grpSpPr>
        <p:sp>
          <p:nvSpPr>
            <p:cNvPr id="71" name=""/>
            <p:cNvSpPr/>
            <p:nvPr/>
          </p:nvSpPr>
          <p:spPr>
            <a:xfrm>
              <a:off x="5486400" y="3124080"/>
              <a:ext cx="281952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80808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" name=""/>
            <p:cNvGrpSpPr/>
            <p:nvPr/>
          </p:nvGrpSpPr>
          <p:grpSpPr>
            <a:xfrm>
              <a:off x="5772240" y="3200400"/>
              <a:ext cx="2145600" cy="2057400"/>
              <a:chOff x="5772240" y="3200400"/>
              <a:chExt cx="2145600" cy="2057400"/>
            </a:xfrm>
          </p:grpSpPr>
          <p:sp>
            <p:nvSpPr>
              <p:cNvPr id="73" name=""/>
              <p:cNvSpPr/>
              <p:nvPr/>
            </p:nvSpPr>
            <p:spPr>
              <a:xfrm>
                <a:off x="5772240" y="3657600"/>
                <a:ext cx="2133720" cy="1600200"/>
              </a:xfrm>
              <a:prstGeom prst="rect">
                <a:avLst/>
              </a:prstGeom>
              <a:solidFill>
                <a:srgbClr val="ffff99"/>
              </a:solidFill>
              <a:ln cap="sq" w="12600">
                <a:solidFill>
                  <a:srgbClr val="808080"/>
                </a:solidFill>
                <a:miter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6305760" y="4190760"/>
                <a:ext cx="1218960" cy="685800"/>
              </a:xfrm>
              <a:prstGeom prst="rect">
                <a:avLst/>
              </a:prstGeom>
              <a:solidFill>
                <a:srgbClr val="c0c0c0"/>
              </a:solidFill>
              <a:ln cap="sq" w="12600">
                <a:solidFill>
                  <a:srgbClr val="808080"/>
                </a:solidFill>
                <a:miter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945400" y="3200400"/>
                <a:ext cx="17838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99cc00"/>
                    </a:solidFill>
                    <a:latin typeface="Times New Roman"/>
                  </a:rPr>
                  <a:t>ACL Message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772600" y="3657600"/>
                <a:ext cx="21452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99cc00"/>
                    </a:solidFill>
                    <a:latin typeface="Times New Roman"/>
                  </a:rPr>
                  <a:t>Content language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306480" y="4297320"/>
                <a:ext cx="1238400" cy="42912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99cc00"/>
                    </a:solidFill>
                    <a:latin typeface="Times New Roman"/>
                  </a:rPr>
                  <a:t>Ontology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gent Communication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C810-18D6-4463-A54A-01CD9CC5300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99B8DD-1F99-466B-A6D7-E02DCE32F81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3200400" y="1371600"/>
            <a:ext cx="2743200" cy="4647960"/>
            <a:chOff x="3200400" y="1371600"/>
            <a:chExt cx="2743200" cy="4647960"/>
          </a:xfrm>
        </p:grpSpPr>
        <p:sp>
          <p:nvSpPr>
            <p:cNvPr id="79" name=""/>
            <p:cNvSpPr/>
            <p:nvPr/>
          </p:nvSpPr>
          <p:spPr>
            <a:xfrm>
              <a:off x="4038480" y="2433600"/>
              <a:ext cx="990720" cy="730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D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200400" y="3695760"/>
              <a:ext cx="1066680" cy="796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AM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952880" y="3695760"/>
              <a:ext cx="990720" cy="796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I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3580920" y="3164400"/>
              <a:ext cx="762120" cy="531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572000" y="3164400"/>
              <a:ext cx="1066680" cy="531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657600" y="4492440"/>
              <a:ext cx="609480" cy="73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23920" y="4492440"/>
              <a:ext cx="685800" cy="73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886200" y="5222880"/>
              <a:ext cx="1218960" cy="796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AML+OI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038480" y="1371600"/>
              <a:ext cx="990720" cy="730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M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95680" y="2101680"/>
              <a:ext cx="0" cy="26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Content Representation Languages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gent Communication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2321-D677-4286-89E8-B8099593285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C051DF-D3A4-4400-8604-950DE002CC7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ACLMessage Representation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oroughly studied FIPA Specif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ied FIPA rules regarding ACLMess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ied complete structure of ACLMess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ied what is Ontology, different communicative acts, Semantic Langu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ation of ontology in ACLMessage Form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d our findings with working of J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gent Communication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5CCE-9096-40EB-8A5D-54FEB484847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1CABDB-5B9A-4675-B968-A76A0A90F7E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Ontology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tology is a shared vocabul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ontology is represented as  separate Java Class(e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Ontology has a unique name and attribu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ever an Ontology is to be used, it must b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nti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s Initial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ed into ACLMessage (Content Fiel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gent Communication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40EA-9987-436B-B59C-14C046BA46E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F6F535-5D0E-444A-B967-5D4AEF9C9D3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Ontology Example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2362320" y="2438280"/>
            <a:ext cx="3581280" cy="2057040"/>
            <a:chOff x="2362320" y="2438280"/>
            <a:chExt cx="3581280" cy="2057040"/>
          </a:xfrm>
        </p:grpSpPr>
        <p:sp>
          <p:nvSpPr>
            <p:cNvPr id="96" name=""/>
            <p:cNvSpPr/>
            <p:nvPr/>
          </p:nvSpPr>
          <p:spPr>
            <a:xfrm>
              <a:off x="2362320" y="2438280"/>
              <a:ext cx="3581280" cy="20570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743200" y="2766960"/>
              <a:ext cx="762120" cy="4114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733920" y="2766960"/>
              <a:ext cx="762120" cy="4114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800600" y="2766960"/>
              <a:ext cx="762120" cy="4114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end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819520" y="3507840"/>
              <a:ext cx="914400" cy="49356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et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038840" y="3507840"/>
              <a:ext cx="914400" cy="49356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t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3048120" y="502920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 Ontology Ex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62320" y="3352680"/>
            <a:ext cx="358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gent Communication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E9C4-EE1E-4B65-99AD-2535E6DCE46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9498F9-DE0E-447D-A087-4E507D07649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Ontology Classes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533520" y="914400"/>
            <a:ext cx="2057040" cy="2666520"/>
            <a:chOff x="533520" y="914400"/>
            <a:chExt cx="2057040" cy="2666520"/>
          </a:xfrm>
        </p:grpSpPr>
        <p:sp>
          <p:nvSpPr>
            <p:cNvPr id="106" name=""/>
            <p:cNvSpPr/>
            <p:nvPr/>
          </p:nvSpPr>
          <p:spPr>
            <a:xfrm>
              <a:off x="533520" y="914400"/>
              <a:ext cx="205704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rs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33520" y="1295280"/>
              <a:ext cx="2057040" cy="761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ring name;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ong age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cc"/>
                  </a:solidFill>
                  <a:latin typeface="Arial"/>
                </a:rPr>
                <a:t>Address address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33520" y="2057040"/>
              <a:ext cx="2057040" cy="1523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Name(String nam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Age(Long ag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Address(Address ad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etName():Str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etAge():Lo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etAddress():Addre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200400" y="914400"/>
            <a:ext cx="2133360" cy="2666520"/>
            <a:chOff x="3200400" y="914400"/>
            <a:chExt cx="2133360" cy="2666520"/>
          </a:xfrm>
        </p:grpSpPr>
        <p:sp>
          <p:nvSpPr>
            <p:cNvPr id="110" name=""/>
            <p:cNvSpPr/>
            <p:nvPr/>
          </p:nvSpPr>
          <p:spPr>
            <a:xfrm>
              <a:off x="3200400" y="914400"/>
              <a:ext cx="213336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mpan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00400" y="1295280"/>
              <a:ext cx="2133360" cy="761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ring name;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cc"/>
                  </a:solidFill>
                  <a:latin typeface="Arial"/>
                </a:rPr>
                <a:t>Address address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200400" y="2057040"/>
              <a:ext cx="2133360" cy="1523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Name(String nam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Address(Address ad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etName():Str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etAddress():Addre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5867280" y="914400"/>
            <a:ext cx="2285640" cy="2666520"/>
            <a:chOff x="5867280" y="914400"/>
            <a:chExt cx="2285640" cy="2666520"/>
          </a:xfrm>
        </p:grpSpPr>
        <p:sp>
          <p:nvSpPr>
            <p:cNvPr id="114" name=""/>
            <p:cNvSpPr/>
            <p:nvPr/>
          </p:nvSpPr>
          <p:spPr>
            <a:xfrm>
              <a:off x="5867280" y="914400"/>
              <a:ext cx="228564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867280" y="1295280"/>
              <a:ext cx="2285640" cy="761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ring street;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ring number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ring city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867280" y="2057040"/>
              <a:ext cx="2285640" cy="1523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Street(String stree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Number(String number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City(String city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etStreet():Str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etNumber():Str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etCity():Str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3200400" y="3733920"/>
            <a:ext cx="2133360" cy="2514240"/>
            <a:chOff x="3200400" y="3733920"/>
            <a:chExt cx="2133360" cy="2514240"/>
          </a:xfrm>
        </p:grpSpPr>
        <p:sp>
          <p:nvSpPr>
            <p:cNvPr id="118" name=""/>
            <p:cNvSpPr/>
            <p:nvPr/>
          </p:nvSpPr>
          <p:spPr>
            <a:xfrm>
              <a:off x="3200400" y="3733920"/>
              <a:ext cx="2133360" cy="359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orksF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200400" y="4093200"/>
              <a:ext cx="2133360" cy="7178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cc"/>
                  </a:solidFill>
                  <a:latin typeface="Arial"/>
                </a:rPr>
                <a:t>Person person;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cc"/>
                  </a:solidFill>
                  <a:latin typeface="Arial"/>
                </a:rPr>
                <a:t>Company company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200400" y="4811400"/>
              <a:ext cx="2133360" cy="1436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Person(Person p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Company(Company 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etPerson():Pers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etCompany():Compan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gent Communication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8A22-A2FE-4CEA-A8DC-651B7EE8952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27D56E-905D-4A90-AB9E-AAF7BEF81DB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2T07:43:09Z</dcterms:created>
  <dc:creator>nust</dc:creator>
  <dc:description/>
  <dc:language>en-US</dc:language>
  <cp:lastModifiedBy>nust</cp:lastModifiedBy>
  <dcterms:modified xsi:type="dcterms:W3CDTF">2003-10-02T12:48:35Z</dcterms:modified>
  <cp:revision>38</cp:revision>
  <dc:subject/>
  <dc:title>Slide 1</dc:title>
</cp:coreProperties>
</file>